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</p:sldMasterIdLst>
  <p:sldIdLst>
    <p:sldId id="256" r:id="rId22"/>
    <p:sldId id="257" r:id="rId23"/>
    <p:sldId id="258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" Target="slides/slide1.xml"/><Relationship Id="rId23" Type="http://schemas.openxmlformats.org/officeDocument/2006/relationships/slide" Target="slides/slide2.xml"/><Relationship Id="rId24" Type="http://schemas.openxmlformats.org/officeDocument/2006/relationships/slide" Target="slides/slide3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F58B7D-3BBF-4716-BCA5-B350DB8E97D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8375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4120" y="3832200"/>
            <a:ext cx="8375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3BFE1A-0957-4324-A8AE-552ADB9238C9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408708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6040" y="1123920"/>
            <a:ext cx="408708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2540E4F-AE4B-4930-BB59-CEBCAB4895A5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890653B-16A1-4C55-95BE-EE1DCB7CE31C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396360" y="482040"/>
            <a:ext cx="8363160" cy="13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6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30D071C-05BD-48D5-BC39-C0F7CC35138C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6040" y="1123920"/>
            <a:ext cx="408708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84120" y="383220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83AF23E-FA79-4D98-AAC8-C26753A2CAED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408708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604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6040" y="383220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5740DA4-40C1-45CF-8E36-069033538EC3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604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384120" y="3832200"/>
            <a:ext cx="8375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E1B3E9C-3C6B-4105-ADEE-A05F31BE37AF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8375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84120" y="3832200"/>
            <a:ext cx="8375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81ADE49-901A-463F-9BFF-E1719C5964C9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604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384120" y="383220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6040" y="383220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D4D9779-DC2F-4175-9AAF-C10CC2050316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16240" y="112392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48000" y="112392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384120" y="383220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16240" y="383220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48000" y="383220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2B341D2-F616-45D6-A675-F2C76E402E02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671A39-1360-43EA-AF96-7E3E45CEA08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04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4120" y="383220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6040" y="383220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B58389-2776-4DF4-8BEB-01C3971D9701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384120" y="1123920"/>
            <a:ext cx="837576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6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C7A17A-E00F-4391-B586-4394308DA589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837576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6A0A4A-2B05-4CD4-8B90-82303087E773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408708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6040" y="1123920"/>
            <a:ext cx="408708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EB367F-C38E-490C-B2CA-9AA784577524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5C0CBB-3F2D-4EB3-85AF-94D1E2300CB5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396360" y="482040"/>
            <a:ext cx="8363160" cy="13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6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1BDC9E-7294-48C0-A936-2DB2DB451393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6040" y="1123920"/>
            <a:ext cx="408708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384120" y="383220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FA1437-6B77-4129-96F9-67EFEC4C0A23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408708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604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676040" y="383220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30D902-C407-4089-8880-8D61BE23C387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604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384120" y="3832200"/>
            <a:ext cx="8375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CD7BA0-BCA8-4C32-90F8-97BB1B153894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8375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384120" y="3832200"/>
            <a:ext cx="8375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114879-B4EC-4391-BCE9-84415BD15F69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604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384120" y="383220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676040" y="383220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2A9808-7FE8-48EE-A20C-A4FE34273C3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16240" y="112392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48000" y="112392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4120" y="383220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16240" y="383220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48000" y="383220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1B3395-7E91-4DB1-9BBA-075FF84BECCF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3216240" y="112392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048000" y="112392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384120" y="383220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3216240" y="383220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6048000" y="383220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81F5E8-5341-43FE-9630-35D86169DF0F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20CC472-D326-4E88-98A3-150D16C0D8D2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subTitle"/>
          </p:nvPr>
        </p:nvSpPr>
        <p:spPr>
          <a:xfrm>
            <a:off x="384120" y="1123920"/>
            <a:ext cx="837576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6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F5D6CA9-7EE2-4BDE-98C6-F764009F62D9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837576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D99963C-3998-4050-B1C8-85B686C2ADD6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408708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6040" y="1123920"/>
            <a:ext cx="408708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2C6F67F-77E2-4C83-BB29-82A637DEB0BD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B292992-275D-4E0E-8378-152D059CCDF0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ubTitle"/>
          </p:nvPr>
        </p:nvSpPr>
        <p:spPr>
          <a:xfrm>
            <a:off x="396360" y="482040"/>
            <a:ext cx="8363160" cy="13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6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871D3A6-912E-4BDA-ABF8-C723134034E9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6040" y="1123920"/>
            <a:ext cx="408708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384120" y="383220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0EC915C-D533-4E84-B7FE-09B85612B49B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408708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604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676040" y="383220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B69F4D7-C4E0-4A86-8A14-FA68A1F619EB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604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384120" y="3832200"/>
            <a:ext cx="8375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D686AD5-A360-4FF3-A257-C6DD03CD01C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8375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384120" y="3832200"/>
            <a:ext cx="8375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F3AE74C-6C33-4073-961D-935E8C1C8143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604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384120" y="383220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4676040" y="383220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B4C91D7-6A97-4256-84EF-9DEF4609E5C2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3216240" y="112392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6048000" y="112392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384120" y="383220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6"/>
          <p:cNvSpPr>
            <a:spLocks noGrp="1"/>
          </p:cNvSpPr>
          <p:nvPr>
            <p:ph/>
          </p:nvPr>
        </p:nvSpPr>
        <p:spPr>
          <a:xfrm>
            <a:off x="3216240" y="383220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7"/>
          <p:cNvSpPr>
            <a:spLocks noGrp="1"/>
          </p:cNvSpPr>
          <p:nvPr>
            <p:ph/>
          </p:nvPr>
        </p:nvSpPr>
        <p:spPr>
          <a:xfrm>
            <a:off x="6048000" y="383220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089D632-9832-4E05-A20C-80000F4E29DA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4DCF101-72AB-43C3-BADF-3BFD2E2943A8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subTitle"/>
          </p:nvPr>
        </p:nvSpPr>
        <p:spPr>
          <a:xfrm>
            <a:off x="384120" y="1123920"/>
            <a:ext cx="837576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6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28E2BE4-49D0-44D4-9E4E-663DF08B4CD2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837576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AF3AA29-9D4A-42FD-9A97-5C055AEEEA2D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408708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6040" y="1123920"/>
            <a:ext cx="408708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239F6D4-B0E3-4A43-92C1-C9BCDFDA4143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DDB71C5-0BB3-4F43-88E7-DF63BD417342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ubTitle"/>
          </p:nvPr>
        </p:nvSpPr>
        <p:spPr>
          <a:xfrm>
            <a:off x="396360" y="482040"/>
            <a:ext cx="8363160" cy="13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6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2EC2589-67EC-42CB-9E10-F83B416E0F47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6040" y="1123920"/>
            <a:ext cx="408708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384120" y="383220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52A054C-F47A-40DF-B256-9E9259C36D6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4120" y="1123920"/>
            <a:ext cx="837576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6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408708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604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676040" y="383220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B26D93A-54B9-403F-B6AC-B5DAAD58FB2C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604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384120" y="3832200"/>
            <a:ext cx="8375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663B066-3608-42A5-A373-7AC127359C3D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8375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384120" y="3832200"/>
            <a:ext cx="8375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2D266D2-D53E-42B2-A16B-228196164537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604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84120" y="383220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4676040" y="383220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804DEDE-D54F-4A3E-8109-6E38AF33E1C2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3216240" y="112392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6048000" y="112392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384120" y="383220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6"/>
          <p:cNvSpPr>
            <a:spLocks noGrp="1"/>
          </p:cNvSpPr>
          <p:nvPr>
            <p:ph/>
          </p:nvPr>
        </p:nvSpPr>
        <p:spPr>
          <a:xfrm>
            <a:off x="3216240" y="383220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7"/>
          <p:cNvSpPr>
            <a:spLocks noGrp="1"/>
          </p:cNvSpPr>
          <p:nvPr>
            <p:ph/>
          </p:nvPr>
        </p:nvSpPr>
        <p:spPr>
          <a:xfrm>
            <a:off x="6048000" y="383220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9ED4E8F-CFEC-4D99-ACB5-65D72C3201EF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8CEB60-3EA0-49EC-AFBF-C56C067807DD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subTitle"/>
          </p:nvPr>
        </p:nvSpPr>
        <p:spPr>
          <a:xfrm>
            <a:off x="384120" y="1123920"/>
            <a:ext cx="837576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6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91EFDC-4263-4AC0-835F-B6EBEA4ED55F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837576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514566-F1CD-4B5E-B80C-EDAA182D5A28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408708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6040" y="1123920"/>
            <a:ext cx="408708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082237-84E5-43C8-8F0C-44C5D3747093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4DE57B-89C9-4220-9423-951E2A736FD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837576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ubTitle"/>
          </p:nvPr>
        </p:nvSpPr>
        <p:spPr>
          <a:xfrm>
            <a:off x="396360" y="482040"/>
            <a:ext cx="8363160" cy="13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6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543F4F-04B8-4C83-B7F9-3360C8F944ED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6040" y="1123920"/>
            <a:ext cx="408708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384120" y="383220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3CCFE1-9ED3-4EBE-9644-5D6E3C1FAC18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408708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604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676040" y="383220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8D0E67-6308-42F7-83CF-3F10F590847B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604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384120" y="3832200"/>
            <a:ext cx="8375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0DB01B-672A-4EA8-ABF0-8A8A13C4119B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8375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84120" y="3832200"/>
            <a:ext cx="8375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E1C0BF-FB36-4C87-BCF9-DAE6F78FB616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604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84120" y="383220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4676040" y="383220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3CFCF9-BEB2-4898-953C-A16A78BB7AB5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3216240" y="112392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6048000" y="112392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/>
          </p:nvPr>
        </p:nvSpPr>
        <p:spPr>
          <a:xfrm>
            <a:off x="384120" y="383220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6"/>
          <p:cNvSpPr>
            <a:spLocks noGrp="1"/>
          </p:cNvSpPr>
          <p:nvPr>
            <p:ph/>
          </p:nvPr>
        </p:nvSpPr>
        <p:spPr>
          <a:xfrm>
            <a:off x="3216240" y="383220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7"/>
          <p:cNvSpPr>
            <a:spLocks noGrp="1"/>
          </p:cNvSpPr>
          <p:nvPr>
            <p:ph/>
          </p:nvPr>
        </p:nvSpPr>
        <p:spPr>
          <a:xfrm>
            <a:off x="6048000" y="383220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297313-E09D-48EB-8A4E-7F8DAEE42D53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37F77FE-44F7-4E36-9DF1-A92F0392B186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 type="subTitle"/>
          </p:nvPr>
        </p:nvSpPr>
        <p:spPr>
          <a:xfrm>
            <a:off x="384120" y="1123920"/>
            <a:ext cx="837576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6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1FCD38A-8FC5-4BDE-9508-FA5EABA17A96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837576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2156FAA-460A-47FE-915A-F35467A45EF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408708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040" y="1123920"/>
            <a:ext cx="408708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408708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6040" y="1123920"/>
            <a:ext cx="408708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21CF336-863C-4140-A777-BF53750E61A6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26D205F-7E9E-4BB1-B1C5-21B812D3470A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subTitle"/>
          </p:nvPr>
        </p:nvSpPr>
        <p:spPr>
          <a:xfrm>
            <a:off x="396360" y="482040"/>
            <a:ext cx="8363160" cy="13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6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13BEFA8-10A9-47CD-AB1A-E0205D92425E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6040" y="1123920"/>
            <a:ext cx="408708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384120" y="383220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F44058C-B763-402A-BDFE-9A6E04119BB0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408708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604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4676040" y="383220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77CF813-8223-4A36-B553-645D3E4FAAE3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604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384120" y="3832200"/>
            <a:ext cx="8375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A7537CC-FEAF-47BF-9605-2D4101FD8729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8375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84120" y="3832200"/>
            <a:ext cx="8375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C3A0B1A-5F02-4CD6-82F0-E0E04128226E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7604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384120" y="383220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/>
          </p:nvPr>
        </p:nvSpPr>
        <p:spPr>
          <a:xfrm>
            <a:off x="4676040" y="383220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D070EB9-550D-46DB-BAE1-1520547E048A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3216240" y="112392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6048000" y="112392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5"/>
          <p:cNvSpPr>
            <a:spLocks noGrp="1"/>
          </p:cNvSpPr>
          <p:nvPr>
            <p:ph/>
          </p:nvPr>
        </p:nvSpPr>
        <p:spPr>
          <a:xfrm>
            <a:off x="384120" y="383220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6"/>
          <p:cNvSpPr>
            <a:spLocks noGrp="1"/>
          </p:cNvSpPr>
          <p:nvPr>
            <p:ph/>
          </p:nvPr>
        </p:nvSpPr>
        <p:spPr>
          <a:xfrm>
            <a:off x="3216240" y="383220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7"/>
          <p:cNvSpPr>
            <a:spLocks noGrp="1"/>
          </p:cNvSpPr>
          <p:nvPr>
            <p:ph/>
          </p:nvPr>
        </p:nvSpPr>
        <p:spPr>
          <a:xfrm>
            <a:off x="6048000" y="383220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2987B18-D4E1-4998-9773-A2FEC7C010AF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CBE5AAB-1AD4-4510-8921-C21B8A19DCB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 type="subTitle"/>
          </p:nvPr>
        </p:nvSpPr>
        <p:spPr>
          <a:xfrm>
            <a:off x="384120" y="1123920"/>
            <a:ext cx="837576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6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D45B0B6-3920-439A-8734-6B7F04D1C1E1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837576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5799716-E613-480E-93A2-4758F0473CF6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408708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76040" y="1123920"/>
            <a:ext cx="408708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3C71769-07ED-4B58-8FC9-EE12CD4C6275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2584095-3F06-4C63-A275-5C8BAFB73948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subTitle"/>
          </p:nvPr>
        </p:nvSpPr>
        <p:spPr>
          <a:xfrm>
            <a:off x="396360" y="482040"/>
            <a:ext cx="8363160" cy="13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6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7CEC97C-7384-48F0-AB3C-A744698DD890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6040" y="1123920"/>
            <a:ext cx="408708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384120" y="383220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06D635E-F0B4-4D67-9D9F-0C59EE14AAE9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408708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7604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4676040" y="383220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DFA8D70-BCA0-4134-94F1-606BCF89B4D9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67604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384120" y="3832200"/>
            <a:ext cx="8375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6936725-7A26-4B1A-88AF-BC4AE1E14B92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8375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84120" y="3832200"/>
            <a:ext cx="8375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BEE3C58-207E-4485-8436-EE380A7A1766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67604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384120" y="383220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/>
          </p:nvPr>
        </p:nvSpPr>
        <p:spPr>
          <a:xfrm>
            <a:off x="4676040" y="383220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5FE45D6-98B3-489C-83FF-215F169E9DC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96360" y="482040"/>
            <a:ext cx="8363160" cy="13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6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3216240" y="112392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6048000" y="112392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5"/>
          <p:cNvSpPr>
            <a:spLocks noGrp="1"/>
          </p:cNvSpPr>
          <p:nvPr>
            <p:ph/>
          </p:nvPr>
        </p:nvSpPr>
        <p:spPr>
          <a:xfrm>
            <a:off x="384120" y="383220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6"/>
          <p:cNvSpPr>
            <a:spLocks noGrp="1"/>
          </p:cNvSpPr>
          <p:nvPr>
            <p:ph/>
          </p:nvPr>
        </p:nvSpPr>
        <p:spPr>
          <a:xfrm>
            <a:off x="3216240" y="383220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7"/>
          <p:cNvSpPr>
            <a:spLocks noGrp="1"/>
          </p:cNvSpPr>
          <p:nvPr>
            <p:ph/>
          </p:nvPr>
        </p:nvSpPr>
        <p:spPr>
          <a:xfrm>
            <a:off x="6048000" y="383220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3FF1297-C34E-4D21-840E-92D19408D1BA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 type="subTitle"/>
          </p:nvPr>
        </p:nvSpPr>
        <p:spPr>
          <a:xfrm>
            <a:off x="384120" y="1123920"/>
            <a:ext cx="837576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6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837576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408708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6040" y="1123920"/>
            <a:ext cx="408708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subTitle"/>
          </p:nvPr>
        </p:nvSpPr>
        <p:spPr>
          <a:xfrm>
            <a:off x="396360" y="482040"/>
            <a:ext cx="8363160" cy="13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6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676040" y="1123920"/>
            <a:ext cx="408708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384120" y="383220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408708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67604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4676040" y="383220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604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384120" y="3832200"/>
            <a:ext cx="8375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6040" y="1123920"/>
            <a:ext cx="408708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4120" y="383220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8375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384120" y="3832200"/>
            <a:ext cx="8375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604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384120" y="383220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5"/>
          <p:cNvSpPr>
            <a:spLocks noGrp="1"/>
          </p:cNvSpPr>
          <p:nvPr>
            <p:ph/>
          </p:nvPr>
        </p:nvSpPr>
        <p:spPr>
          <a:xfrm>
            <a:off x="4676040" y="383220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3216240" y="112392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6048000" y="112392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5"/>
          <p:cNvSpPr>
            <a:spLocks noGrp="1"/>
          </p:cNvSpPr>
          <p:nvPr>
            <p:ph/>
          </p:nvPr>
        </p:nvSpPr>
        <p:spPr>
          <a:xfrm>
            <a:off x="384120" y="383220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6"/>
          <p:cNvSpPr>
            <a:spLocks noGrp="1"/>
          </p:cNvSpPr>
          <p:nvPr>
            <p:ph/>
          </p:nvPr>
        </p:nvSpPr>
        <p:spPr>
          <a:xfrm>
            <a:off x="3216240" y="383220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7"/>
          <p:cNvSpPr>
            <a:spLocks noGrp="1"/>
          </p:cNvSpPr>
          <p:nvPr>
            <p:ph/>
          </p:nvPr>
        </p:nvSpPr>
        <p:spPr>
          <a:xfrm>
            <a:off x="6048000" y="383220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subTitle"/>
          </p:nvPr>
        </p:nvSpPr>
        <p:spPr>
          <a:xfrm>
            <a:off x="384120" y="1123920"/>
            <a:ext cx="837576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6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837576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408708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6040" y="1123920"/>
            <a:ext cx="408708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ubTitle"/>
          </p:nvPr>
        </p:nvSpPr>
        <p:spPr>
          <a:xfrm>
            <a:off x="396360" y="482040"/>
            <a:ext cx="8363160" cy="13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6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6040" y="1123920"/>
            <a:ext cx="408708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384120" y="383220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4120" y="1123920"/>
            <a:ext cx="837576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6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5E6B00-9C28-434A-BA49-A97AE1D30FB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408708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604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6040" y="383220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408708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7604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4676040" y="383220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604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384120" y="3832200"/>
            <a:ext cx="8375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8375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384120" y="3832200"/>
            <a:ext cx="8375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604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384120" y="383220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/>
          </p:nvPr>
        </p:nvSpPr>
        <p:spPr>
          <a:xfrm>
            <a:off x="4676040" y="383220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3216240" y="112392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6048000" y="112392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384120" y="383220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6"/>
          <p:cNvSpPr>
            <a:spLocks noGrp="1"/>
          </p:cNvSpPr>
          <p:nvPr>
            <p:ph/>
          </p:nvPr>
        </p:nvSpPr>
        <p:spPr>
          <a:xfrm>
            <a:off x="3216240" y="383220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7"/>
          <p:cNvSpPr>
            <a:spLocks noGrp="1"/>
          </p:cNvSpPr>
          <p:nvPr>
            <p:ph/>
          </p:nvPr>
        </p:nvSpPr>
        <p:spPr>
          <a:xfrm>
            <a:off x="6048000" y="383220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 type="subTitle"/>
          </p:nvPr>
        </p:nvSpPr>
        <p:spPr>
          <a:xfrm>
            <a:off x="384120" y="1123920"/>
            <a:ext cx="837576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6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837576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408708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6040" y="1123920"/>
            <a:ext cx="408708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604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4120" y="3832200"/>
            <a:ext cx="8375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subTitle"/>
          </p:nvPr>
        </p:nvSpPr>
        <p:spPr>
          <a:xfrm>
            <a:off x="396360" y="482040"/>
            <a:ext cx="8363160" cy="13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6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6040" y="1123920"/>
            <a:ext cx="408708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384120" y="383220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408708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7604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4676040" y="383220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604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/>
          </p:nvPr>
        </p:nvSpPr>
        <p:spPr>
          <a:xfrm>
            <a:off x="384120" y="3832200"/>
            <a:ext cx="8375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8375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84120" y="3832200"/>
            <a:ext cx="8375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604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384120" y="383220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5"/>
          <p:cNvSpPr>
            <a:spLocks noGrp="1"/>
          </p:cNvSpPr>
          <p:nvPr>
            <p:ph/>
          </p:nvPr>
        </p:nvSpPr>
        <p:spPr>
          <a:xfrm>
            <a:off x="4676040" y="383220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3216240" y="112392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6048000" y="112392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5"/>
          <p:cNvSpPr>
            <a:spLocks noGrp="1"/>
          </p:cNvSpPr>
          <p:nvPr>
            <p:ph/>
          </p:nvPr>
        </p:nvSpPr>
        <p:spPr>
          <a:xfrm>
            <a:off x="384120" y="383220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6"/>
          <p:cNvSpPr>
            <a:spLocks noGrp="1"/>
          </p:cNvSpPr>
          <p:nvPr>
            <p:ph/>
          </p:nvPr>
        </p:nvSpPr>
        <p:spPr>
          <a:xfrm>
            <a:off x="3216240" y="383220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7"/>
          <p:cNvSpPr>
            <a:spLocks noGrp="1"/>
          </p:cNvSpPr>
          <p:nvPr>
            <p:ph/>
          </p:nvPr>
        </p:nvSpPr>
        <p:spPr>
          <a:xfrm>
            <a:off x="6048000" y="383220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 type="subTitle"/>
          </p:nvPr>
        </p:nvSpPr>
        <p:spPr>
          <a:xfrm>
            <a:off x="384120" y="1123920"/>
            <a:ext cx="837576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6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837576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8375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4120" y="3832200"/>
            <a:ext cx="8375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408708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6040" y="1123920"/>
            <a:ext cx="408708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subTitle"/>
          </p:nvPr>
        </p:nvSpPr>
        <p:spPr>
          <a:xfrm>
            <a:off x="396360" y="482040"/>
            <a:ext cx="8363160" cy="13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6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4676040" y="1123920"/>
            <a:ext cx="408708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4"/>
          <p:cNvSpPr>
            <a:spLocks noGrp="1"/>
          </p:cNvSpPr>
          <p:nvPr>
            <p:ph/>
          </p:nvPr>
        </p:nvSpPr>
        <p:spPr>
          <a:xfrm>
            <a:off x="384120" y="383220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408708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467604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4676040" y="383220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467604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384120" y="3832200"/>
            <a:ext cx="8375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8375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384120" y="3832200"/>
            <a:ext cx="8375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467604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384120" y="383220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4676040" y="383220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3216240" y="112392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6048000" y="112392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5"/>
          <p:cNvSpPr>
            <a:spLocks noGrp="1"/>
          </p:cNvSpPr>
          <p:nvPr>
            <p:ph/>
          </p:nvPr>
        </p:nvSpPr>
        <p:spPr>
          <a:xfrm>
            <a:off x="384120" y="383220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6"/>
          <p:cNvSpPr>
            <a:spLocks noGrp="1"/>
          </p:cNvSpPr>
          <p:nvPr>
            <p:ph/>
          </p:nvPr>
        </p:nvSpPr>
        <p:spPr>
          <a:xfrm>
            <a:off x="3216240" y="383220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7"/>
          <p:cNvSpPr>
            <a:spLocks noGrp="1"/>
          </p:cNvSpPr>
          <p:nvPr>
            <p:ph/>
          </p:nvPr>
        </p:nvSpPr>
        <p:spPr>
          <a:xfrm>
            <a:off x="6048000" y="383220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604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4120" y="383220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6040" y="383220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 type="subTitle"/>
          </p:nvPr>
        </p:nvSpPr>
        <p:spPr>
          <a:xfrm>
            <a:off x="384120" y="1123920"/>
            <a:ext cx="837576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6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837576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408708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676040" y="1123920"/>
            <a:ext cx="408708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subTitle"/>
          </p:nvPr>
        </p:nvSpPr>
        <p:spPr>
          <a:xfrm>
            <a:off x="396360" y="482040"/>
            <a:ext cx="8363160" cy="13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6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6040" y="1123920"/>
            <a:ext cx="408708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384120" y="383220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408708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604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4676040" y="383220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467604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4"/>
          <p:cNvSpPr>
            <a:spLocks noGrp="1"/>
          </p:cNvSpPr>
          <p:nvPr>
            <p:ph/>
          </p:nvPr>
        </p:nvSpPr>
        <p:spPr>
          <a:xfrm>
            <a:off x="384120" y="3832200"/>
            <a:ext cx="8375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8375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384120" y="3832200"/>
            <a:ext cx="8375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467604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4"/>
          <p:cNvSpPr>
            <a:spLocks noGrp="1"/>
          </p:cNvSpPr>
          <p:nvPr>
            <p:ph/>
          </p:nvPr>
        </p:nvSpPr>
        <p:spPr>
          <a:xfrm>
            <a:off x="384120" y="383220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5"/>
          <p:cNvSpPr>
            <a:spLocks noGrp="1"/>
          </p:cNvSpPr>
          <p:nvPr>
            <p:ph/>
          </p:nvPr>
        </p:nvSpPr>
        <p:spPr>
          <a:xfrm>
            <a:off x="4676040" y="383220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16240" y="112392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48000" y="112392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4120" y="383220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16240" y="383220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48000" y="383220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3216240" y="112392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PlaceHolder 4"/>
          <p:cNvSpPr>
            <a:spLocks noGrp="1"/>
          </p:cNvSpPr>
          <p:nvPr>
            <p:ph/>
          </p:nvPr>
        </p:nvSpPr>
        <p:spPr>
          <a:xfrm>
            <a:off x="6048000" y="112392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5"/>
          <p:cNvSpPr>
            <a:spLocks noGrp="1"/>
          </p:cNvSpPr>
          <p:nvPr>
            <p:ph/>
          </p:nvPr>
        </p:nvSpPr>
        <p:spPr>
          <a:xfrm>
            <a:off x="384120" y="383220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6"/>
          <p:cNvSpPr>
            <a:spLocks noGrp="1"/>
          </p:cNvSpPr>
          <p:nvPr>
            <p:ph/>
          </p:nvPr>
        </p:nvSpPr>
        <p:spPr>
          <a:xfrm>
            <a:off x="3216240" y="383220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PlaceHolder 7"/>
          <p:cNvSpPr>
            <a:spLocks noGrp="1"/>
          </p:cNvSpPr>
          <p:nvPr>
            <p:ph/>
          </p:nvPr>
        </p:nvSpPr>
        <p:spPr>
          <a:xfrm>
            <a:off x="6048000" y="383220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11915C-5E04-4452-9F72-B5A3853C901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84120" y="1123920"/>
            <a:ext cx="837576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6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C1766C-1A3E-4BAC-8711-6A0C6E220A9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837576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25B391-8CE7-4679-9AE8-5AC2F130977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408708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6040" y="1123920"/>
            <a:ext cx="408708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7A192A-958B-4FDC-9E9A-B69E2BB621F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629039-2E1E-4E45-A0AF-BE53DC67217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837576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AF3614-2414-44A0-B3D7-9FB99E25B20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396360" y="482040"/>
            <a:ext cx="8363160" cy="13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6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CFF5E3-7A94-4EF5-9676-33C78D18FAE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6040" y="1123920"/>
            <a:ext cx="408708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384120" y="383220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8C7284-474C-4A50-8DE4-4E00AD9015F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408708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604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6040" y="383220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BDD95A-A369-4420-8C5B-D41E7337427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604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384120" y="3832200"/>
            <a:ext cx="8375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38EE24-6D06-4D41-840A-266BDFA168D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8375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84120" y="3832200"/>
            <a:ext cx="8375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453811-AAC4-4F0B-88A7-98E331E0F7A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604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384120" y="383220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6040" y="383220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28BBEB-F6AC-45B1-9F8D-D45FAAB6CE6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16240" y="112392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48000" y="112392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384120" y="383220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16240" y="383220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48000" y="383220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D43827-D343-4A88-B5CE-1C5BED720736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3C996-27D5-4B1B-9D0C-DE501ABFFC88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384120" y="1123920"/>
            <a:ext cx="837576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6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DE3B2-6588-463E-A94E-7282238E0681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837576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E4DB7-8D86-4066-969B-E471020E89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408708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6040" y="1123920"/>
            <a:ext cx="408708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B15B56-D4E7-4188-8212-F4BB1A9DD7EE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408708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6040" y="1123920"/>
            <a:ext cx="408708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36A06-4EA6-4445-98BA-F1350D3C17AD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36693-E928-472E-A01F-2E3B733614D6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396360" y="482040"/>
            <a:ext cx="8363160" cy="13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6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B8BCA-913C-435D-9977-FEFEABCC0C67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6040" y="1123920"/>
            <a:ext cx="408708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384120" y="383220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2BB9A-76F9-4A63-BD0D-84B9FE11F87F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408708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604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6040" y="383220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08A1F-B51D-4804-B8CA-212696FCEB1A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04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384120" y="3832200"/>
            <a:ext cx="8375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1ED08-266D-49DE-B035-6582B63580D4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8375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84120" y="3832200"/>
            <a:ext cx="8375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01556-15F7-4977-844C-4EC5E6DF69A4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604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384120" y="383220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6040" y="383220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24F1F-95EA-435E-98D0-250C31830B39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16240" y="112392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48000" y="112392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384120" y="383220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16240" y="383220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48000" y="383220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2C6BA-E4AB-4CF4-8ED5-C241243F2201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B186F6-A194-4243-ADD8-5A48799B296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5D67EC-1A9A-445E-994B-75A6F27AEC57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384120" y="1123920"/>
            <a:ext cx="837576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6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9E1587-BCD0-44A6-9328-0D22DB11A0E4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837576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4B0E2F-A51E-4DA3-A292-32D4101252F8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408708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6040" y="1123920"/>
            <a:ext cx="408708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8484CC-ADD4-4FB9-B117-BB07BC5D72CF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BC1151-835E-4694-A934-5AD2414F2FCF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396360" y="482040"/>
            <a:ext cx="8363160" cy="13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6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E0A3DD-2266-493A-B491-2FF4CC239C6D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6040" y="1123920"/>
            <a:ext cx="408708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384120" y="383220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AD8F11-3604-4503-88C7-D2002E0C82EE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408708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604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676040" y="383220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7846BB-B8BF-45ED-A1D4-2BE9C4DD121A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604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384120" y="3832200"/>
            <a:ext cx="8375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099FE1-192B-4E72-A90E-5BBFC94D8D6A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8375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84120" y="3832200"/>
            <a:ext cx="8375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ACB459-2B2D-4423-81BF-B50EF503C9CE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604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384120" y="383220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676040" y="383220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0BBF48-02D0-4CEB-8E70-3F4FA046CC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96360" y="482040"/>
            <a:ext cx="8363160" cy="13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6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F35700-C23D-4DC9-81DD-FED3550F8786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216240" y="112392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048000" y="112392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384120" y="383220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216240" y="383220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048000" y="383220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859BE9-48DA-461F-9753-6DB7440D5291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DB3A11-69C6-428B-9551-86ED1219F7F5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384120" y="1123920"/>
            <a:ext cx="837576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6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D0660F-7D67-47EC-90E2-332B09D863E8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837576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DE31B3-83F5-442A-BF04-BBEDE64C0270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408708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6040" y="1123920"/>
            <a:ext cx="408708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85864E-A109-41DC-9DF3-3F5DDD56886E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0C6215-D54F-469F-B242-36F8928B7EE9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ubTitle"/>
          </p:nvPr>
        </p:nvSpPr>
        <p:spPr>
          <a:xfrm>
            <a:off x="396360" y="482040"/>
            <a:ext cx="8363160" cy="13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6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D98394-212C-4560-B262-02EA6D7A4D5E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6040" y="1123920"/>
            <a:ext cx="408708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384120" y="383220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5780D1-4D1B-4425-9B18-CE7A872BFB1B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408708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604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676040" y="383220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4ACE1D-A891-45FB-B62C-5996D3055E30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604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384120" y="3832200"/>
            <a:ext cx="8375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C0B6D5-E3FE-4B28-80FD-9E510D1F406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040" y="1123920"/>
            <a:ext cx="408708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4120" y="383220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3BDA67-6766-42A6-9DC5-277F2E64B385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8375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384120" y="3832200"/>
            <a:ext cx="8375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F5089C-58CB-4C23-8068-A61F16C1A4E8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604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384120" y="383220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676040" y="383220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E6E88A-BA9A-4672-9EFD-60BCAFE82DB0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216240" y="112392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048000" y="112392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384120" y="383220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6"/>
          <p:cNvSpPr>
            <a:spLocks noGrp="1"/>
          </p:cNvSpPr>
          <p:nvPr>
            <p:ph/>
          </p:nvPr>
        </p:nvSpPr>
        <p:spPr>
          <a:xfrm>
            <a:off x="3216240" y="383220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7"/>
          <p:cNvSpPr>
            <a:spLocks noGrp="1"/>
          </p:cNvSpPr>
          <p:nvPr>
            <p:ph/>
          </p:nvPr>
        </p:nvSpPr>
        <p:spPr>
          <a:xfrm>
            <a:off x="6048000" y="383220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3C373A-A96F-471C-A863-7DCA4311356A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A316A-E7A1-4B4E-B642-27DBF5EAF198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384120" y="1123920"/>
            <a:ext cx="837576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6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AC75D-5152-4B28-8773-DE457B91EEE1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837576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D249A-417E-4481-A0BC-2121119C3C7C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408708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6040" y="1123920"/>
            <a:ext cx="408708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EC117-0CA6-4054-947B-AE6A78B84A65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20AE3-E1C7-4E29-AE66-B8053932D199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396360" y="482040"/>
            <a:ext cx="8363160" cy="13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6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971DF-C029-49A3-BCF5-F4F123C08686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6040" y="1123920"/>
            <a:ext cx="408708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384120" y="383220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77AB2-8B51-4BB5-8B8E-58A39C82F7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408708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04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6040" y="383220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F35D71-A0F7-45D4-90E5-BAB74422AEFE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408708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604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676040" y="383220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196F5-2D7C-4A1D-B17C-159602A3D172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604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384120" y="3832200"/>
            <a:ext cx="8375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43725-A6EA-4839-A2E5-CADED5C26D12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8375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84120" y="3832200"/>
            <a:ext cx="8375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AE111-AF18-496F-841F-4CA6AA406697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604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84120" y="383220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676040" y="383220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EA789-7EC2-4E8C-8E4C-702E5A7A66F5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216240" y="112392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048000" y="112392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384120" y="383220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216240" y="383220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048000" y="383220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0B051-8729-4CB7-AB11-04D67A4B7A3F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9E89F17-5CD3-4AFE-A42D-58909C97171A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subTitle"/>
          </p:nvPr>
        </p:nvSpPr>
        <p:spPr>
          <a:xfrm>
            <a:off x="384120" y="1123920"/>
            <a:ext cx="837576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6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F70CE13-1D91-427B-8604-DB3999FAF61C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837576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F549683-FB76-4E62-B715-EA61DE7741DF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408708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6040" y="1123920"/>
            <a:ext cx="408708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21EFD65-E5CE-49F4-9DC3-0D27F4E9E180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A51FB70-7FA7-4615-8172-9260C493EAC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04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4120" y="3832200"/>
            <a:ext cx="8375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EBB94A-E92D-4F26-BF04-5151FFF9476F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396360" y="482040"/>
            <a:ext cx="8363160" cy="13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6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83808F2-4908-470A-84F1-6A9F30D06F4D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6040" y="1123920"/>
            <a:ext cx="408708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84120" y="383220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EDC83AE-BED6-4104-AD5C-BC83D28A48DC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408708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604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676040" y="383220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EBF321C-209A-485F-8517-6BFE28FE982D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604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384120" y="3832200"/>
            <a:ext cx="8375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A8C12DB-CCE5-4F12-B476-FBEE2101A18A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8375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384120" y="3832200"/>
            <a:ext cx="8375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C7299A0-5323-4A27-A758-8897F1596B7C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604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384120" y="383220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676040" y="383220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1B2FCE4-8469-4A2D-82BD-0914730A4372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3216240" y="112392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048000" y="112392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384120" y="383220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6"/>
          <p:cNvSpPr>
            <a:spLocks noGrp="1"/>
          </p:cNvSpPr>
          <p:nvPr>
            <p:ph/>
          </p:nvPr>
        </p:nvSpPr>
        <p:spPr>
          <a:xfrm>
            <a:off x="3216240" y="383220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7"/>
          <p:cNvSpPr>
            <a:spLocks noGrp="1"/>
          </p:cNvSpPr>
          <p:nvPr>
            <p:ph/>
          </p:nvPr>
        </p:nvSpPr>
        <p:spPr>
          <a:xfrm>
            <a:off x="6048000" y="383220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55568AD-C029-4498-904E-6D0BB9CF7147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2E7BB6F-85A6-4961-9BCB-EB76F7EDF0E9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384120" y="1123920"/>
            <a:ext cx="837576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6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C69CF5A-5C83-40E9-BA1B-558A251CD852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837576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2E18C5B-6368-44FF-8B7D-687DD2573C1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4120" y="1123920"/>
            <a:ext cx="837576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6040" indent="-17604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-17640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58760" indent="-17928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587600" indent="-19368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03400" indent="-23508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003400" indent="-23508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2003400" indent="-23508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Line 42"/>
          <p:cNvSpPr/>
          <p:nvPr/>
        </p:nvSpPr>
        <p:spPr>
          <a:xfrm>
            <a:off x="392040" y="806400"/>
            <a:ext cx="8355240" cy="0"/>
          </a:xfrm>
          <a:prstGeom prst="line">
            <a:avLst/>
          </a:prstGeom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8739360" y="6381720"/>
            <a:ext cx="1936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C8604-2D23-43DC-AAA2-CC9CA7C0228A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Line 42"/>
          <p:cNvSpPr/>
          <p:nvPr/>
        </p:nvSpPr>
        <p:spPr>
          <a:xfrm>
            <a:off x="395280" y="6308640"/>
            <a:ext cx="8354880" cy="0"/>
          </a:xfrm>
          <a:prstGeom prst="line">
            <a:avLst/>
          </a:prstGeom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Line 42"/>
          <p:cNvSpPr/>
          <p:nvPr/>
        </p:nvSpPr>
        <p:spPr>
          <a:xfrm>
            <a:off x="392040" y="806400"/>
            <a:ext cx="8355240" cy="0"/>
          </a:xfrm>
          <a:prstGeom prst="line">
            <a:avLst/>
          </a:prstGeom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Line 42"/>
          <p:cNvSpPr/>
          <p:nvPr/>
        </p:nvSpPr>
        <p:spPr>
          <a:xfrm>
            <a:off x="395280" y="6308640"/>
            <a:ext cx="8354880" cy="0"/>
          </a:xfrm>
          <a:prstGeom prst="line">
            <a:avLst/>
          </a:prstGeom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Line 42"/>
          <p:cNvSpPr/>
          <p:nvPr/>
        </p:nvSpPr>
        <p:spPr>
          <a:xfrm>
            <a:off x="395280" y="6389640"/>
            <a:ext cx="8354880" cy="0"/>
          </a:xfrm>
          <a:prstGeom prst="line">
            <a:avLst/>
          </a:prstGeom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384120" y="1123920"/>
            <a:ext cx="837576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6040" indent="-17604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-17640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58760" indent="-17928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587600" indent="-19368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03400" indent="-23508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003400" indent="-23508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2003400" indent="-23508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 type="sldNum" idx="9"/>
          </p:nvPr>
        </p:nvSpPr>
        <p:spPr>
          <a:xfrm>
            <a:off x="8721360" y="6381720"/>
            <a:ext cx="2286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8E7E12FB-22E5-43EF-90C7-AB30FFAEBDA6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Line 42"/>
          <p:cNvSpPr/>
          <p:nvPr/>
        </p:nvSpPr>
        <p:spPr>
          <a:xfrm>
            <a:off x="392040" y="806400"/>
            <a:ext cx="8355240" cy="0"/>
          </a:xfrm>
          <a:prstGeom prst="line">
            <a:avLst/>
          </a:prstGeom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Line 42"/>
          <p:cNvSpPr/>
          <p:nvPr/>
        </p:nvSpPr>
        <p:spPr>
          <a:xfrm>
            <a:off x="395280" y="6308640"/>
            <a:ext cx="8354880" cy="0"/>
          </a:xfrm>
          <a:prstGeom prst="line">
            <a:avLst/>
          </a:prstGeom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Line 42"/>
          <p:cNvSpPr/>
          <p:nvPr/>
        </p:nvSpPr>
        <p:spPr>
          <a:xfrm>
            <a:off x="404640" y="6389640"/>
            <a:ext cx="8355240" cy="0"/>
          </a:xfrm>
          <a:prstGeom prst="line">
            <a:avLst/>
          </a:prstGeom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384120" y="1123920"/>
            <a:ext cx="837576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6040" indent="-17604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-17640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58760" indent="-17928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587600" indent="-19368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03400" indent="-23508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003400" indent="-23508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2003400" indent="-23508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 type="sldNum" idx="10"/>
          </p:nvPr>
        </p:nvSpPr>
        <p:spPr>
          <a:xfrm>
            <a:off x="8721360" y="6381720"/>
            <a:ext cx="2286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5E0D38A5-570B-4CC9-8E94-5B1D75A9B8C2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Line 42"/>
          <p:cNvSpPr/>
          <p:nvPr/>
        </p:nvSpPr>
        <p:spPr>
          <a:xfrm>
            <a:off x="392040" y="806400"/>
            <a:ext cx="8355240" cy="0"/>
          </a:xfrm>
          <a:prstGeom prst="line">
            <a:avLst/>
          </a:prstGeom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Line 42"/>
          <p:cNvSpPr/>
          <p:nvPr/>
        </p:nvSpPr>
        <p:spPr>
          <a:xfrm>
            <a:off x="395280" y="6308640"/>
            <a:ext cx="8354880" cy="0"/>
          </a:xfrm>
          <a:prstGeom prst="line">
            <a:avLst/>
          </a:prstGeom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Line 42"/>
          <p:cNvSpPr/>
          <p:nvPr/>
        </p:nvSpPr>
        <p:spPr>
          <a:xfrm>
            <a:off x="384120" y="6351480"/>
            <a:ext cx="8355240" cy="0"/>
          </a:xfrm>
          <a:prstGeom prst="line">
            <a:avLst/>
          </a:prstGeom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384120" y="1123920"/>
            <a:ext cx="837576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6040" indent="-17604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-17640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58760" indent="-17928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587600" indent="-19368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03400" indent="-23508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003400" indent="-23508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2003400" indent="-23508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 type="sldNum" idx="11"/>
          </p:nvPr>
        </p:nvSpPr>
        <p:spPr>
          <a:xfrm>
            <a:off x="8721360" y="6381720"/>
            <a:ext cx="2286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08C3AFE0-2673-4B59-A9A7-C8FD456E9E89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Line 42"/>
          <p:cNvSpPr/>
          <p:nvPr/>
        </p:nvSpPr>
        <p:spPr>
          <a:xfrm>
            <a:off x="392040" y="806400"/>
            <a:ext cx="8355240" cy="0"/>
          </a:xfrm>
          <a:prstGeom prst="line">
            <a:avLst/>
          </a:prstGeom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Line 42"/>
          <p:cNvSpPr/>
          <p:nvPr/>
        </p:nvSpPr>
        <p:spPr>
          <a:xfrm>
            <a:off x="395280" y="6308640"/>
            <a:ext cx="8354880" cy="0"/>
          </a:xfrm>
          <a:prstGeom prst="line">
            <a:avLst/>
          </a:prstGeom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Line 42"/>
          <p:cNvSpPr/>
          <p:nvPr/>
        </p:nvSpPr>
        <p:spPr>
          <a:xfrm>
            <a:off x="384120" y="6308640"/>
            <a:ext cx="8355240" cy="0"/>
          </a:xfrm>
          <a:prstGeom prst="line">
            <a:avLst/>
          </a:prstGeom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384120" y="1123920"/>
            <a:ext cx="837576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6040" indent="-17604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-17640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58760" indent="-17928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587600" indent="-19368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03400" indent="-23508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003400" indent="-23508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2003400" indent="-23508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 type="sldNum" idx="12"/>
          </p:nvPr>
        </p:nvSpPr>
        <p:spPr>
          <a:xfrm>
            <a:off x="8757720" y="6381720"/>
            <a:ext cx="155880" cy="1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564C5-1AEB-4496-B3FC-A1B52BD310EF}" type="slidenum"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Line 42"/>
          <p:cNvSpPr/>
          <p:nvPr/>
        </p:nvSpPr>
        <p:spPr>
          <a:xfrm>
            <a:off x="392040" y="806400"/>
            <a:ext cx="8355240" cy="0"/>
          </a:xfrm>
          <a:prstGeom prst="line">
            <a:avLst/>
          </a:prstGeom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Line 42"/>
          <p:cNvSpPr/>
          <p:nvPr/>
        </p:nvSpPr>
        <p:spPr>
          <a:xfrm>
            <a:off x="395280" y="6308640"/>
            <a:ext cx="8354880" cy="0"/>
          </a:xfrm>
          <a:prstGeom prst="line">
            <a:avLst/>
          </a:prstGeom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384120" y="1123920"/>
            <a:ext cx="837576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6040" indent="-17604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-17640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58760" indent="-17928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587600" indent="-19368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03400" indent="-23508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003400" indent="-23508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2003400" indent="-23508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 type="sldNum" idx="13"/>
          </p:nvPr>
        </p:nvSpPr>
        <p:spPr>
          <a:xfrm>
            <a:off x="8639280" y="6562800"/>
            <a:ext cx="155520" cy="1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6224B-552E-48B4-9021-86645806BB63}" type="slidenum"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Line 42"/>
          <p:cNvSpPr/>
          <p:nvPr/>
        </p:nvSpPr>
        <p:spPr>
          <a:xfrm>
            <a:off x="392040" y="806400"/>
            <a:ext cx="8355240" cy="0"/>
          </a:xfrm>
          <a:prstGeom prst="line">
            <a:avLst/>
          </a:prstGeom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Line 42"/>
          <p:cNvSpPr/>
          <p:nvPr/>
        </p:nvSpPr>
        <p:spPr>
          <a:xfrm>
            <a:off x="392040" y="6021360"/>
            <a:ext cx="8355240" cy="0"/>
          </a:xfrm>
          <a:prstGeom prst="line">
            <a:avLst/>
          </a:prstGeom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384120" y="1123920"/>
            <a:ext cx="837576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6040" indent="-17604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-17640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58760" indent="-17928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587600" indent="-19368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03400" indent="-23508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003400" indent="-23508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2003400" indent="-23508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 type="sldNum" idx="14"/>
          </p:nvPr>
        </p:nvSpPr>
        <p:spPr>
          <a:xfrm>
            <a:off x="8639280" y="6562800"/>
            <a:ext cx="155520" cy="1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9E0C0-F72C-4453-8D1F-CF7D2305DBA8}" type="slidenum"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Line 42"/>
          <p:cNvSpPr/>
          <p:nvPr/>
        </p:nvSpPr>
        <p:spPr>
          <a:xfrm>
            <a:off x="392040" y="806400"/>
            <a:ext cx="8355240" cy="0"/>
          </a:xfrm>
          <a:prstGeom prst="line">
            <a:avLst/>
          </a:prstGeom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Line 42"/>
          <p:cNvSpPr/>
          <p:nvPr/>
        </p:nvSpPr>
        <p:spPr>
          <a:xfrm>
            <a:off x="395280" y="6308640"/>
            <a:ext cx="8354880" cy="0"/>
          </a:xfrm>
          <a:prstGeom prst="line">
            <a:avLst/>
          </a:prstGeom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Line 42"/>
          <p:cNvSpPr/>
          <p:nvPr/>
        </p:nvSpPr>
        <p:spPr>
          <a:xfrm>
            <a:off x="395280" y="6308640"/>
            <a:ext cx="8354880" cy="0"/>
          </a:xfrm>
          <a:prstGeom prst="line">
            <a:avLst/>
          </a:prstGeom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rostokąt 8"/>
          <p:cNvSpPr/>
          <p:nvPr/>
        </p:nvSpPr>
        <p:spPr>
          <a:xfrm>
            <a:off x="8233200" y="6453360"/>
            <a:ext cx="75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06028-B759-4F8E-8545-9FBA09E96E58}" type="slidenum">
              <a:rPr b="0" lang="pl-P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384120" y="1123920"/>
            <a:ext cx="837576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6040" indent="-17604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-17640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58760" indent="-17928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587600" indent="-19368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03400" indent="-23508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003400" indent="-23508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2003400" indent="-23508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Line 42"/>
          <p:cNvSpPr/>
          <p:nvPr/>
        </p:nvSpPr>
        <p:spPr>
          <a:xfrm>
            <a:off x="392040" y="806400"/>
            <a:ext cx="8355240" cy="0"/>
          </a:xfrm>
          <a:prstGeom prst="line">
            <a:avLst/>
          </a:prstGeom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Line 42"/>
          <p:cNvSpPr/>
          <p:nvPr/>
        </p:nvSpPr>
        <p:spPr>
          <a:xfrm>
            <a:off x="395280" y="6308640"/>
            <a:ext cx="8354880" cy="0"/>
          </a:xfrm>
          <a:prstGeom prst="line">
            <a:avLst/>
          </a:prstGeom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rostokąt z zaokrąglonym rogiem 7"/>
          <p:cNvSpPr/>
          <p:nvPr/>
        </p:nvSpPr>
        <p:spPr>
          <a:xfrm flipV="1">
            <a:off x="0" y="-720"/>
            <a:ext cx="9144000" cy="4110120"/>
          </a:xfrm>
          <a:custGeom>
            <a:avLst/>
            <a:gdLst/>
            <a:ahLst/>
            <a:rect l="l" t="t" r="r" b="b"/>
            <a:pathLst>
              <a:path w="9144000" h="4110038">
                <a:moveTo>
                  <a:pt x="0" y="0"/>
                </a:moveTo>
                <a:lnTo>
                  <a:pt x="8458980" y="0"/>
                </a:lnTo>
                <a:cubicBezTo>
                  <a:pt x="8837306" y="0"/>
                  <a:pt x="9144000" y="306694"/>
                  <a:pt x="9144000" y="685020"/>
                </a:cubicBezTo>
                <a:lnTo>
                  <a:pt x="9144000" y="4110038"/>
                </a:lnTo>
                <a:lnTo>
                  <a:pt x="0" y="4110038"/>
                </a:lnTo>
                <a:lnTo>
                  <a:pt x="0" y="0"/>
                </a:lnTo>
                <a:close/>
              </a:path>
            </a:pathLst>
          </a:custGeom>
          <a:solidFill>
            <a:srgbClr val="5859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Łza 7"/>
          <p:cNvSpPr/>
          <p:nvPr/>
        </p:nvSpPr>
        <p:spPr>
          <a:xfrm rot="16200000">
            <a:off x="7125480" y="2975400"/>
            <a:ext cx="1638360" cy="1617480"/>
          </a:xfrm>
          <a:custGeom>
            <a:avLst/>
            <a:gdLst/>
            <a:ahLst/>
            <a:rect l="l" t="t" r="r" b="b"/>
            <a:pathLst>
              <a:path w="1638300" h="1617662">
                <a:moveTo>
                  <a:pt x="0" y="808831"/>
                </a:moveTo>
                <a:cubicBezTo>
                  <a:pt x="0" y="362126"/>
                  <a:pt x="366746" y="0"/>
                  <a:pt x="819150" y="0"/>
                </a:cubicBezTo>
                <a:lnTo>
                  <a:pt x="1638300" y="0"/>
                </a:lnTo>
                <a:lnTo>
                  <a:pt x="1638300" y="808831"/>
                </a:lnTo>
                <a:cubicBezTo>
                  <a:pt x="1638300" y="1255536"/>
                  <a:pt x="1271554" y="1617662"/>
                  <a:pt x="819150" y="1617662"/>
                </a:cubicBezTo>
                <a:cubicBezTo>
                  <a:pt x="366746" y="1617662"/>
                  <a:pt x="0" y="1255536"/>
                  <a:pt x="0" y="808831"/>
                </a:cubicBezTo>
                <a:close/>
              </a:path>
            </a:pathLst>
          </a:custGeom>
          <a:solidFill>
            <a:srgbClr val="f68b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384120" y="1123920"/>
            <a:ext cx="837576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6040" indent="-17604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-17640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58760" indent="-17928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587600" indent="-19368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03400" indent="-23508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003400" indent="-23508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2003400" indent="-23508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Line 42"/>
          <p:cNvSpPr/>
          <p:nvPr/>
        </p:nvSpPr>
        <p:spPr>
          <a:xfrm>
            <a:off x="392040" y="806400"/>
            <a:ext cx="8355240" cy="0"/>
          </a:xfrm>
          <a:prstGeom prst="line">
            <a:avLst/>
          </a:prstGeom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Line 42"/>
          <p:cNvSpPr/>
          <p:nvPr/>
        </p:nvSpPr>
        <p:spPr>
          <a:xfrm>
            <a:off x="395280" y="6308640"/>
            <a:ext cx="8354880" cy="0"/>
          </a:xfrm>
          <a:prstGeom prst="line">
            <a:avLst/>
          </a:prstGeom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rostokąt z zaokrąglonym rogiem 7"/>
          <p:cNvSpPr/>
          <p:nvPr/>
        </p:nvSpPr>
        <p:spPr>
          <a:xfrm flipV="1">
            <a:off x="0" y="-720"/>
            <a:ext cx="9144000" cy="5334120"/>
          </a:xfrm>
          <a:custGeom>
            <a:avLst/>
            <a:gdLst/>
            <a:ahLst/>
            <a:rect l="l" t="t" r="r" b="b"/>
            <a:pathLst>
              <a:path w="9144000" h="5334000">
                <a:moveTo>
                  <a:pt x="0" y="0"/>
                </a:moveTo>
                <a:lnTo>
                  <a:pt x="8254982" y="0"/>
                </a:lnTo>
                <a:cubicBezTo>
                  <a:pt x="8745973" y="0"/>
                  <a:pt x="9144000" y="398027"/>
                  <a:pt x="9144000" y="889018"/>
                </a:cubicBezTo>
                <a:lnTo>
                  <a:pt x="9144000" y="5334000"/>
                </a:lnTo>
                <a:lnTo>
                  <a:pt x="0" y="5334000"/>
                </a:lnTo>
                <a:lnTo>
                  <a:pt x="0" y="0"/>
                </a:lnTo>
                <a:close/>
              </a:path>
            </a:pathLst>
          </a:custGeom>
          <a:solidFill>
            <a:srgbClr val="5859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Łza 7"/>
          <p:cNvSpPr/>
          <p:nvPr/>
        </p:nvSpPr>
        <p:spPr>
          <a:xfrm rot="16200000">
            <a:off x="6963480" y="4524840"/>
            <a:ext cx="1638360" cy="1617480"/>
          </a:xfrm>
          <a:custGeom>
            <a:avLst/>
            <a:gdLst/>
            <a:ahLst/>
            <a:rect l="l" t="t" r="r" b="b"/>
            <a:pathLst>
              <a:path w="1638300" h="1617662">
                <a:moveTo>
                  <a:pt x="0" y="808831"/>
                </a:moveTo>
                <a:cubicBezTo>
                  <a:pt x="0" y="362126"/>
                  <a:pt x="366746" y="0"/>
                  <a:pt x="819150" y="0"/>
                </a:cubicBezTo>
                <a:lnTo>
                  <a:pt x="1638300" y="0"/>
                </a:lnTo>
                <a:lnTo>
                  <a:pt x="1638300" y="808831"/>
                </a:lnTo>
                <a:cubicBezTo>
                  <a:pt x="1638300" y="1255536"/>
                  <a:pt x="1271554" y="1617662"/>
                  <a:pt x="819150" y="1617662"/>
                </a:cubicBezTo>
                <a:cubicBezTo>
                  <a:pt x="366746" y="1617662"/>
                  <a:pt x="0" y="1255536"/>
                  <a:pt x="0" y="808831"/>
                </a:cubicBezTo>
                <a:close/>
              </a:path>
            </a:pathLst>
          </a:custGeom>
          <a:solidFill>
            <a:srgbClr val="f68b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 type="body"/>
          </p:nvPr>
        </p:nvSpPr>
        <p:spPr>
          <a:xfrm>
            <a:off x="384120" y="1123920"/>
            <a:ext cx="837576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6040" indent="-17604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-17640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58760" indent="-17928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587600" indent="-19368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03400" indent="-23508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003400" indent="-23508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2003400" indent="-23508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Line 42"/>
          <p:cNvSpPr/>
          <p:nvPr/>
        </p:nvSpPr>
        <p:spPr>
          <a:xfrm>
            <a:off x="392040" y="806400"/>
            <a:ext cx="8355240" cy="0"/>
          </a:xfrm>
          <a:prstGeom prst="line">
            <a:avLst/>
          </a:prstGeom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Line 42"/>
          <p:cNvSpPr/>
          <p:nvPr/>
        </p:nvSpPr>
        <p:spPr>
          <a:xfrm>
            <a:off x="395280" y="6308640"/>
            <a:ext cx="8354880" cy="0"/>
          </a:xfrm>
          <a:prstGeom prst="line">
            <a:avLst/>
          </a:prstGeom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rostokąt z zaokrąglonym rogiem 7"/>
          <p:cNvSpPr/>
          <p:nvPr/>
        </p:nvSpPr>
        <p:spPr>
          <a:xfrm flipV="1">
            <a:off x="0" y="0"/>
            <a:ext cx="9144000" cy="1373040"/>
          </a:xfrm>
          <a:custGeom>
            <a:avLst/>
            <a:gdLst/>
            <a:ahLst/>
            <a:rect l="l" t="t" r="r" b="b"/>
            <a:pathLst>
              <a:path w="9144000" h="1373188">
                <a:moveTo>
                  <a:pt x="0" y="0"/>
                </a:moveTo>
                <a:lnTo>
                  <a:pt x="8915131" y="0"/>
                </a:lnTo>
                <a:cubicBezTo>
                  <a:pt x="9041532" y="0"/>
                  <a:pt x="9144000" y="102468"/>
                  <a:pt x="9144000" y="228869"/>
                </a:cubicBezTo>
                <a:lnTo>
                  <a:pt x="9144000" y="1373188"/>
                </a:lnTo>
                <a:lnTo>
                  <a:pt x="0" y="1373188"/>
                </a:lnTo>
                <a:lnTo>
                  <a:pt x="0" y="0"/>
                </a:lnTo>
                <a:close/>
              </a:path>
            </a:pathLst>
          </a:custGeom>
          <a:solidFill>
            <a:srgbClr val="5859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Łza 7"/>
          <p:cNvSpPr/>
          <p:nvPr/>
        </p:nvSpPr>
        <p:spPr>
          <a:xfrm rot="16200000">
            <a:off x="7385040" y="426960"/>
            <a:ext cx="1447920" cy="1454400"/>
          </a:xfrm>
          <a:custGeom>
            <a:avLst/>
            <a:gdLst/>
            <a:ahLst/>
            <a:rect l="l" t="t" r="r" b="b"/>
            <a:pathLst>
              <a:path w="1447800" h="1454150">
                <a:moveTo>
                  <a:pt x="0" y="727075"/>
                </a:moveTo>
                <a:cubicBezTo>
                  <a:pt x="0" y="325523"/>
                  <a:pt x="324101" y="0"/>
                  <a:pt x="723900" y="0"/>
                </a:cubicBezTo>
                <a:lnTo>
                  <a:pt x="1447800" y="0"/>
                </a:lnTo>
                <a:lnTo>
                  <a:pt x="1447800" y="727075"/>
                </a:lnTo>
                <a:cubicBezTo>
                  <a:pt x="1447800" y="1128627"/>
                  <a:pt x="1123699" y="1454150"/>
                  <a:pt x="723900" y="1454150"/>
                </a:cubicBezTo>
                <a:cubicBezTo>
                  <a:pt x="324101" y="1454150"/>
                  <a:pt x="0" y="1128627"/>
                  <a:pt x="0" y="727075"/>
                </a:cubicBezTo>
                <a:close/>
              </a:path>
            </a:pathLst>
          </a:custGeom>
          <a:solidFill>
            <a:srgbClr val="f68b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 type="body"/>
          </p:nvPr>
        </p:nvSpPr>
        <p:spPr>
          <a:xfrm>
            <a:off x="384120" y="1123920"/>
            <a:ext cx="837576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6040" indent="-17604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-17640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58760" indent="-17928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587600" indent="-19368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03400" indent="-23508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003400" indent="-23508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2003400" indent="-23508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0"/>
          <p:cNvSpPr/>
          <p:nvPr/>
        </p:nvSpPr>
        <p:spPr>
          <a:xfrm>
            <a:off x="579600" y="816120"/>
            <a:ext cx="8013600" cy="4795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ctr">
            <a:noAutofit/>
          </a:bodyPr>
          <a:p>
            <a:pPr marL="117360" indent="-117360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Line 42"/>
          <p:cNvSpPr/>
          <p:nvPr/>
        </p:nvSpPr>
        <p:spPr>
          <a:xfrm>
            <a:off x="395280" y="6308640"/>
            <a:ext cx="8354880" cy="0"/>
          </a:xfrm>
          <a:prstGeom prst="line">
            <a:avLst/>
          </a:prstGeom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4120" y="1123920"/>
            <a:ext cx="837576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6040" indent="-17604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-17640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58760" indent="-17928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587600" indent="-19368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03400" indent="-23508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003400" indent="-23508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2003400" indent="-23508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Line 42"/>
          <p:cNvSpPr/>
          <p:nvPr/>
        </p:nvSpPr>
        <p:spPr>
          <a:xfrm>
            <a:off x="392040" y="806400"/>
            <a:ext cx="8355240" cy="0"/>
          </a:xfrm>
          <a:prstGeom prst="line">
            <a:avLst/>
          </a:prstGeom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Line 42"/>
          <p:cNvSpPr/>
          <p:nvPr/>
        </p:nvSpPr>
        <p:spPr>
          <a:xfrm>
            <a:off x="395280" y="6308640"/>
            <a:ext cx="8354880" cy="0"/>
          </a:xfrm>
          <a:prstGeom prst="line">
            <a:avLst/>
          </a:prstGeom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Łza 6"/>
          <p:cNvSpPr/>
          <p:nvPr/>
        </p:nvSpPr>
        <p:spPr>
          <a:xfrm>
            <a:off x="3513240" y="0"/>
            <a:ext cx="5630760" cy="5454720"/>
          </a:xfrm>
          <a:custGeom>
            <a:avLst/>
            <a:gdLst/>
            <a:ahLst/>
            <a:rect l="l" t="t" r="r" b="b"/>
            <a:pathLst>
              <a:path w="5630862" h="5454650">
                <a:moveTo>
                  <a:pt x="0" y="2727325"/>
                </a:moveTo>
                <a:cubicBezTo>
                  <a:pt x="0" y="1221065"/>
                  <a:pt x="1260511" y="0"/>
                  <a:pt x="2815431" y="0"/>
                </a:cubicBezTo>
                <a:lnTo>
                  <a:pt x="5630862" y="0"/>
                </a:lnTo>
                <a:lnTo>
                  <a:pt x="5630862" y="2727325"/>
                </a:lnTo>
                <a:cubicBezTo>
                  <a:pt x="5630862" y="4233585"/>
                  <a:pt x="4370351" y="5454650"/>
                  <a:pt x="2815431" y="5454650"/>
                </a:cubicBezTo>
                <a:cubicBezTo>
                  <a:pt x="1260511" y="5454650"/>
                  <a:pt x="0" y="4233585"/>
                  <a:pt x="0" y="2727325"/>
                </a:cubicBezTo>
                <a:close/>
              </a:path>
            </a:pathLst>
          </a:custGeom>
          <a:solidFill>
            <a:srgbClr val="5859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Łza 7"/>
          <p:cNvSpPr/>
          <p:nvPr/>
        </p:nvSpPr>
        <p:spPr>
          <a:xfrm rot="16200000">
            <a:off x="2597760" y="2219760"/>
            <a:ext cx="3114720" cy="3218040"/>
          </a:xfrm>
          <a:custGeom>
            <a:avLst/>
            <a:gdLst/>
            <a:ahLst/>
            <a:rect l="l" t="t" r="r" b="b"/>
            <a:pathLst>
              <a:path w="3114675" h="3217863">
                <a:moveTo>
                  <a:pt x="0" y="1608932"/>
                </a:moveTo>
                <a:cubicBezTo>
                  <a:pt x="0" y="720343"/>
                  <a:pt x="697244" y="0"/>
                  <a:pt x="1557338" y="0"/>
                </a:cubicBezTo>
                <a:lnTo>
                  <a:pt x="3114675" y="0"/>
                </a:lnTo>
                <a:lnTo>
                  <a:pt x="3114675" y="1608932"/>
                </a:lnTo>
                <a:cubicBezTo>
                  <a:pt x="3114675" y="2497521"/>
                  <a:pt x="2417431" y="3217864"/>
                  <a:pt x="1557337" y="3217864"/>
                </a:cubicBezTo>
                <a:cubicBezTo>
                  <a:pt x="697243" y="3217864"/>
                  <a:pt x="-1" y="2497521"/>
                  <a:pt x="-1" y="1608932"/>
                </a:cubicBezTo>
                <a:lnTo>
                  <a:pt x="0" y="1608932"/>
                </a:lnTo>
                <a:close/>
              </a:path>
            </a:pathLst>
          </a:custGeom>
          <a:solidFill>
            <a:srgbClr val="f68b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body"/>
          </p:nvPr>
        </p:nvSpPr>
        <p:spPr>
          <a:xfrm>
            <a:off x="384120" y="1123920"/>
            <a:ext cx="837576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6040" indent="-17604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-17640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58760" indent="-17928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587600" indent="-19368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03400" indent="-23508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003400" indent="-23508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2003400" indent="-23508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 type="dt" idx="15"/>
          </p:nvPr>
        </p:nvSpPr>
        <p:spPr>
          <a:xfrm>
            <a:off x="-360" y="-36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440" bIns="-4644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A1650-43F0-4318-B851-FD4FD41D7474}" type="datetime"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 type="ftr" idx="16"/>
          </p:nvPr>
        </p:nvSpPr>
        <p:spPr>
          <a:xfrm>
            <a:off x="-360" y="-36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440" bIns="-4644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Związek Miast Polski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Line 42"/>
          <p:cNvSpPr/>
          <p:nvPr/>
        </p:nvSpPr>
        <p:spPr>
          <a:xfrm>
            <a:off x="392040" y="806400"/>
            <a:ext cx="8355240" cy="0"/>
          </a:xfrm>
          <a:prstGeom prst="line">
            <a:avLst/>
          </a:prstGeom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42"/>
          <p:cNvSpPr/>
          <p:nvPr/>
        </p:nvSpPr>
        <p:spPr>
          <a:xfrm>
            <a:off x="395280" y="6308640"/>
            <a:ext cx="8354880" cy="0"/>
          </a:xfrm>
          <a:prstGeom prst="line">
            <a:avLst/>
          </a:prstGeom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2"/>
          <p:cNvSpPr/>
          <p:nvPr/>
        </p:nvSpPr>
        <p:spPr>
          <a:xfrm>
            <a:off x="395280" y="6308640"/>
            <a:ext cx="8354880" cy="0"/>
          </a:xfrm>
          <a:prstGeom prst="line">
            <a:avLst/>
          </a:prstGeom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384120" y="1123920"/>
            <a:ext cx="837576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6040" indent="-17604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-17640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58760" indent="-17928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587600" indent="-19368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03400" indent="-23508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003400" indent="-23508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2003400" indent="-23508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2"/>
          </p:nvPr>
        </p:nvSpPr>
        <p:spPr>
          <a:xfrm>
            <a:off x="8721360" y="6381720"/>
            <a:ext cx="2286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73147CE2-A5A0-44D3-B02E-D7C1E01DFEB0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Line 42"/>
          <p:cNvSpPr/>
          <p:nvPr/>
        </p:nvSpPr>
        <p:spPr>
          <a:xfrm>
            <a:off x="392040" y="806400"/>
            <a:ext cx="8355240" cy="0"/>
          </a:xfrm>
          <a:prstGeom prst="line">
            <a:avLst/>
          </a:prstGeom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42"/>
          <p:cNvSpPr/>
          <p:nvPr/>
        </p:nvSpPr>
        <p:spPr>
          <a:xfrm>
            <a:off x="395280" y="6308640"/>
            <a:ext cx="8354880" cy="0"/>
          </a:xfrm>
          <a:prstGeom prst="line">
            <a:avLst/>
          </a:prstGeom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384120" y="1123920"/>
            <a:ext cx="837576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6040" indent="-17604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-17640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58760" indent="-17928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587600" indent="-19368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03400" indent="-23508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003400" indent="-23508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2003400" indent="-23508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3"/>
          </p:nvPr>
        </p:nvSpPr>
        <p:spPr>
          <a:xfrm>
            <a:off x="8721360" y="6381720"/>
            <a:ext cx="2286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81745D2B-3F81-403E-BD7A-8B8454269527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Line 42"/>
          <p:cNvSpPr/>
          <p:nvPr/>
        </p:nvSpPr>
        <p:spPr>
          <a:xfrm>
            <a:off x="392040" y="806400"/>
            <a:ext cx="8355240" cy="0"/>
          </a:xfrm>
          <a:prstGeom prst="line">
            <a:avLst/>
          </a:prstGeom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42"/>
          <p:cNvSpPr/>
          <p:nvPr/>
        </p:nvSpPr>
        <p:spPr>
          <a:xfrm>
            <a:off x="395280" y="6308640"/>
            <a:ext cx="8354880" cy="0"/>
          </a:xfrm>
          <a:prstGeom prst="line">
            <a:avLst/>
          </a:prstGeom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42"/>
          <p:cNvSpPr/>
          <p:nvPr/>
        </p:nvSpPr>
        <p:spPr>
          <a:xfrm>
            <a:off x="395280" y="6308640"/>
            <a:ext cx="8354880" cy="0"/>
          </a:xfrm>
          <a:prstGeom prst="line">
            <a:avLst/>
          </a:prstGeom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384120" y="1123920"/>
            <a:ext cx="837576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6040" indent="-17604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-17640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58760" indent="-17928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587600" indent="-19368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03400" indent="-23508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003400" indent="-23508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2003400" indent="-23508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sldNum" idx="4"/>
          </p:nvPr>
        </p:nvSpPr>
        <p:spPr>
          <a:xfrm>
            <a:off x="8721360" y="6381720"/>
            <a:ext cx="2286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B8B726A9-991C-45FE-9EF6-42CF556F2EE3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Line 42"/>
          <p:cNvSpPr/>
          <p:nvPr/>
        </p:nvSpPr>
        <p:spPr>
          <a:xfrm>
            <a:off x="392040" y="806400"/>
            <a:ext cx="8355240" cy="0"/>
          </a:xfrm>
          <a:prstGeom prst="line">
            <a:avLst/>
          </a:prstGeom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42"/>
          <p:cNvSpPr/>
          <p:nvPr/>
        </p:nvSpPr>
        <p:spPr>
          <a:xfrm>
            <a:off x="395280" y="6308640"/>
            <a:ext cx="8354880" cy="0"/>
          </a:xfrm>
          <a:prstGeom prst="line">
            <a:avLst/>
          </a:prstGeom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42"/>
          <p:cNvSpPr/>
          <p:nvPr/>
        </p:nvSpPr>
        <p:spPr>
          <a:xfrm>
            <a:off x="395280" y="6308640"/>
            <a:ext cx="8354880" cy="0"/>
          </a:xfrm>
          <a:prstGeom prst="line">
            <a:avLst/>
          </a:prstGeom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384120" y="1123920"/>
            <a:ext cx="837576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6040" indent="-17604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-17640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58760" indent="-17928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587600" indent="-19368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03400" indent="-23508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003400" indent="-23508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2003400" indent="-23508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sldNum" idx="5"/>
          </p:nvPr>
        </p:nvSpPr>
        <p:spPr>
          <a:xfrm>
            <a:off x="8721360" y="6381720"/>
            <a:ext cx="2286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70CA3D0F-97ED-4269-AC30-47338859E39E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Line 42"/>
          <p:cNvSpPr/>
          <p:nvPr/>
        </p:nvSpPr>
        <p:spPr>
          <a:xfrm>
            <a:off x="392040" y="806400"/>
            <a:ext cx="8355240" cy="0"/>
          </a:xfrm>
          <a:prstGeom prst="line">
            <a:avLst/>
          </a:prstGeom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Line 42"/>
          <p:cNvSpPr/>
          <p:nvPr/>
        </p:nvSpPr>
        <p:spPr>
          <a:xfrm>
            <a:off x="395280" y="6308640"/>
            <a:ext cx="8354880" cy="0"/>
          </a:xfrm>
          <a:prstGeom prst="line">
            <a:avLst/>
          </a:prstGeom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Line 42"/>
          <p:cNvSpPr/>
          <p:nvPr/>
        </p:nvSpPr>
        <p:spPr>
          <a:xfrm>
            <a:off x="395280" y="6308640"/>
            <a:ext cx="8354880" cy="0"/>
          </a:xfrm>
          <a:prstGeom prst="line">
            <a:avLst/>
          </a:prstGeom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384120" y="1123920"/>
            <a:ext cx="837576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6040" indent="-17604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-17640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58760" indent="-17928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587600" indent="-19368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03400" indent="-23508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003400" indent="-23508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2003400" indent="-23508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 type="sldNum" idx="6"/>
          </p:nvPr>
        </p:nvSpPr>
        <p:spPr>
          <a:xfrm>
            <a:off x="8721360" y="6381720"/>
            <a:ext cx="2286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51C7EDC3-4153-4EBA-A271-F91C93B61EE3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Line 42"/>
          <p:cNvSpPr/>
          <p:nvPr/>
        </p:nvSpPr>
        <p:spPr>
          <a:xfrm>
            <a:off x="392040" y="806400"/>
            <a:ext cx="8355240" cy="0"/>
          </a:xfrm>
          <a:prstGeom prst="line">
            <a:avLst/>
          </a:prstGeom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Line 42"/>
          <p:cNvSpPr/>
          <p:nvPr/>
        </p:nvSpPr>
        <p:spPr>
          <a:xfrm>
            <a:off x="395280" y="6308640"/>
            <a:ext cx="8354880" cy="0"/>
          </a:xfrm>
          <a:prstGeom prst="line">
            <a:avLst/>
          </a:prstGeom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Line 42"/>
          <p:cNvSpPr/>
          <p:nvPr/>
        </p:nvSpPr>
        <p:spPr>
          <a:xfrm>
            <a:off x="395280" y="6308640"/>
            <a:ext cx="8354880" cy="0"/>
          </a:xfrm>
          <a:prstGeom prst="line">
            <a:avLst/>
          </a:prstGeom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384120" y="1123920"/>
            <a:ext cx="837576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6040" indent="-17604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-17640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58760" indent="-17928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587600" indent="-19368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03400" indent="-23508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003400" indent="-23508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2003400" indent="-23508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 type="sldNum" idx="7"/>
          </p:nvPr>
        </p:nvSpPr>
        <p:spPr>
          <a:xfrm>
            <a:off x="8721360" y="6381720"/>
            <a:ext cx="2286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FB9DE53D-194A-4ADE-8ACC-B7271CF76516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Line 42"/>
          <p:cNvSpPr/>
          <p:nvPr/>
        </p:nvSpPr>
        <p:spPr>
          <a:xfrm>
            <a:off x="392040" y="806400"/>
            <a:ext cx="8355240" cy="0"/>
          </a:xfrm>
          <a:prstGeom prst="line">
            <a:avLst/>
          </a:prstGeom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Line 42"/>
          <p:cNvSpPr/>
          <p:nvPr/>
        </p:nvSpPr>
        <p:spPr>
          <a:xfrm>
            <a:off x="395280" y="6308640"/>
            <a:ext cx="8354880" cy="0"/>
          </a:xfrm>
          <a:prstGeom prst="line">
            <a:avLst/>
          </a:prstGeom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384120" y="1123920"/>
            <a:ext cx="837576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6040" indent="-17604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-17640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58760" indent="-17928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587600" indent="-19368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03400" indent="-23508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003400" indent="-23508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2003400" indent="-23508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 type="sldNum" idx="8"/>
          </p:nvPr>
        </p:nvSpPr>
        <p:spPr>
          <a:xfrm>
            <a:off x="8788320" y="6381720"/>
            <a:ext cx="1922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5E9E1-808D-4CBC-925D-7CE1FE8B5DF2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9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1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5" name="Tytuł 1"/>
          <p:cNvGrpSpPr/>
          <p:nvPr/>
        </p:nvGrpSpPr>
        <p:grpSpPr>
          <a:xfrm>
            <a:off x="480960" y="311040"/>
            <a:ext cx="5797440" cy="3376800"/>
            <a:chOff x="480960" y="311040"/>
            <a:chExt cx="5797440" cy="3376800"/>
          </a:xfrm>
        </p:grpSpPr>
        <p:pic>
          <p:nvPicPr>
            <p:cNvPr id="836" name="Tytuł 1" descr=""/>
            <p:cNvPicPr/>
            <p:nvPr/>
          </p:nvPicPr>
          <p:blipFill>
            <a:blip r:embed="rId1"/>
            <a:stretch/>
          </p:blipFill>
          <p:spPr>
            <a:xfrm>
              <a:off x="480960" y="311040"/>
              <a:ext cx="5797440" cy="337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7" name=""/>
            <p:cNvSpPr/>
            <p:nvPr/>
          </p:nvSpPr>
          <p:spPr>
            <a:xfrm>
              <a:off x="611280" y="439560"/>
              <a:ext cx="5538600" cy="311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noAutofit/>
            </a:bodyPr>
            <a:p>
              <a:pPr>
                <a:lnSpc>
                  <a:spcPct val="106000"/>
                </a:lnSpc>
                <a:tabLst>
                  <a:tab algn="l" pos="0"/>
                  <a:tab algn="l" pos="684360"/>
                  <a:tab algn="l" pos="1368360"/>
                  <a:tab algn="l" pos="2052720"/>
                  <a:tab algn="l" pos="2736720"/>
                  <a:tab algn="l" pos="3421080"/>
                  <a:tab algn="l" pos="4105440"/>
                  <a:tab algn="l" pos="4789440"/>
                  <a:tab algn="l" pos="5473800"/>
                  <a:tab algn="l" pos="6157800"/>
                  <a:tab algn="l" pos="6842160"/>
                  <a:tab algn="l" pos="7526160"/>
                  <a:tab algn="l" pos="8210520"/>
                  <a:tab algn="l" pos="8894880"/>
                  <a:tab algn="l" pos="9578880"/>
                  <a:tab algn="l" pos="10263240"/>
                  <a:tab algn="l" pos="10947240"/>
                </a:tabLst>
              </a:pPr>
              <a:r>
                <a:rPr b="1" lang="pl-PL" sz="2000" spc="-1" strike="noStrike">
                  <a:solidFill>
                    <a:srgbClr val="ffffff"/>
                  </a:solidFill>
                  <a:latin typeface="Arial"/>
                </a:rPr>
                <a:t>Szkolenie PS3 / NS6</a:t>
              </a:r>
              <a:br>
                <a:rPr sz="4000"/>
              </a:br>
              <a:r>
                <a:rPr b="1" lang="pl-PL" sz="4000" spc="-1" strike="noStrike">
                  <a:solidFill>
                    <a:srgbClr val="ffffff"/>
                  </a:solidFill>
                  <a:latin typeface="Arial"/>
                </a:rPr>
                <a:t>Stosowanie narzędzi elektronicznych</a:t>
              </a:r>
              <a:br>
                <a:rPr sz="4000"/>
              </a:br>
              <a:br>
                <a:rPr sz="4000"/>
              </a:br>
              <a:r>
                <a:rPr b="1" lang="pl-PL" sz="4000" spc="-1" strike="noStrike">
                  <a:solidFill>
                    <a:srgbClr val="ffffff"/>
                  </a:solidFill>
                  <a:latin typeface="Arial"/>
                </a:rPr>
                <a:t>Urząd Miasta….. </a:t>
              </a:r>
              <a:br>
                <a:rPr sz="4000"/>
              </a:br>
              <a:r>
                <a:rPr b="0" lang="pl-PL" sz="3200" spc="-1" strike="noStrike">
                  <a:solidFill>
                    <a:srgbClr val="ffffff"/>
                  </a:solidFill>
                  <a:latin typeface="Arial"/>
                </a:rPr>
                <a:t>……………….2019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8" name="pole tekstowe 13"/>
          <p:cNvSpPr/>
          <p:nvPr/>
        </p:nvSpPr>
        <p:spPr>
          <a:xfrm>
            <a:off x="146160" y="5807160"/>
            <a:ext cx="8039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800" spc="-1" strike="noStrike">
                <a:solidFill>
                  <a:srgbClr val="58595b"/>
                </a:solidFill>
                <a:latin typeface="Times New Roman CE"/>
                <a:ea typeface="Arial"/>
              </a:rPr>
              <a:t>Projekt: „Nowoczesne rozwiązania w obszarze podatków i opłat lokalnych  oraz zarządzania nieruchomościami dla 6 miast - członków Związku Miast Polskich"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9" name="Obraz 15" descr=""/>
          <p:cNvPicPr/>
          <p:nvPr/>
        </p:nvPicPr>
        <p:blipFill>
          <a:blip r:embed="rId2"/>
          <a:stretch/>
        </p:blipFill>
        <p:spPr>
          <a:xfrm>
            <a:off x="765000" y="5200560"/>
            <a:ext cx="7016760" cy="549360"/>
          </a:xfrm>
          <a:prstGeom prst="rect">
            <a:avLst/>
          </a:prstGeom>
          <a:ln w="0">
            <a:noFill/>
          </a:ln>
        </p:spPr>
      </p:pic>
      <p:pic>
        <p:nvPicPr>
          <p:cNvPr id="840" name="Grafika 2" descr=""/>
          <p:cNvPicPr/>
          <p:nvPr/>
        </p:nvPicPr>
        <p:blipFill>
          <a:blip r:embed="rId3"/>
          <a:stretch/>
        </p:blipFill>
        <p:spPr>
          <a:xfrm>
            <a:off x="1982880" y="4429080"/>
            <a:ext cx="561960" cy="665280"/>
          </a:xfrm>
          <a:prstGeom prst="rect">
            <a:avLst/>
          </a:prstGeom>
          <a:ln w="0">
            <a:noFill/>
          </a:ln>
        </p:spPr>
      </p:pic>
      <p:pic>
        <p:nvPicPr>
          <p:cNvPr id="841" name="Grafika 5" descr=""/>
          <p:cNvPicPr/>
          <p:nvPr/>
        </p:nvPicPr>
        <p:blipFill>
          <a:blip r:embed="rId4"/>
          <a:stretch/>
        </p:blipFill>
        <p:spPr>
          <a:xfrm>
            <a:off x="2682720" y="4429080"/>
            <a:ext cx="465120" cy="558720"/>
          </a:xfrm>
          <a:prstGeom prst="rect">
            <a:avLst/>
          </a:prstGeom>
          <a:ln w="0">
            <a:noFill/>
          </a:ln>
        </p:spPr>
      </p:pic>
      <p:pic>
        <p:nvPicPr>
          <p:cNvPr id="842" name="Grafika 7" descr=""/>
          <p:cNvPicPr/>
          <p:nvPr/>
        </p:nvPicPr>
        <p:blipFill>
          <a:blip r:embed="rId5"/>
          <a:stretch/>
        </p:blipFill>
        <p:spPr>
          <a:xfrm>
            <a:off x="3365640" y="4429080"/>
            <a:ext cx="509400" cy="606600"/>
          </a:xfrm>
          <a:prstGeom prst="rect">
            <a:avLst/>
          </a:prstGeom>
          <a:ln w="0">
            <a:noFill/>
          </a:ln>
        </p:spPr>
      </p:pic>
      <p:pic>
        <p:nvPicPr>
          <p:cNvPr id="843" name="Grafika 9" descr=""/>
          <p:cNvPicPr/>
          <p:nvPr/>
        </p:nvPicPr>
        <p:blipFill>
          <a:blip r:embed="rId6"/>
          <a:stretch/>
        </p:blipFill>
        <p:spPr>
          <a:xfrm>
            <a:off x="4095720" y="4268880"/>
            <a:ext cx="473040" cy="741240"/>
          </a:xfrm>
          <a:prstGeom prst="rect">
            <a:avLst/>
          </a:prstGeom>
          <a:ln w="0">
            <a:noFill/>
          </a:ln>
        </p:spPr>
      </p:pic>
      <p:pic>
        <p:nvPicPr>
          <p:cNvPr id="844" name="Grafika 11" descr=""/>
          <p:cNvPicPr/>
          <p:nvPr/>
        </p:nvPicPr>
        <p:blipFill>
          <a:blip r:embed="rId7"/>
          <a:stretch/>
        </p:blipFill>
        <p:spPr>
          <a:xfrm>
            <a:off x="4811760" y="4448160"/>
            <a:ext cx="473040" cy="549360"/>
          </a:xfrm>
          <a:prstGeom prst="rect">
            <a:avLst/>
          </a:prstGeom>
          <a:ln w="0">
            <a:noFill/>
          </a:ln>
        </p:spPr>
      </p:pic>
      <p:pic>
        <p:nvPicPr>
          <p:cNvPr id="845" name="Grafika 14" descr=""/>
          <p:cNvPicPr/>
          <p:nvPr/>
        </p:nvPicPr>
        <p:blipFill>
          <a:blip r:embed="rId8"/>
          <a:stretch/>
        </p:blipFill>
        <p:spPr>
          <a:xfrm>
            <a:off x="5514840" y="4448160"/>
            <a:ext cx="482760" cy="56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420480" y="942480"/>
            <a:ext cx="7886520" cy="23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pl-PL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20480" y="942480"/>
            <a:ext cx="7886520" cy="23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pl-PL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3T08:34:56Z</dcterms:created>
  <dc:creator>User</dc:creator>
  <dc:description/>
  <dc:language>en-US</dc:language>
  <cp:lastModifiedBy>Sylwia</cp:lastModifiedBy>
  <cp:lastPrinted>2019-02-21T10:31:22Z</cp:lastPrinted>
  <dcterms:modified xsi:type="dcterms:W3CDTF">2019-05-21T10:34:01Z</dcterms:modified>
  <cp:revision>12</cp:revision>
  <dc:subject/>
  <dc:title>Szkolenie PS5 Zarządzanie procesami i jakością Urząd Miasta Tarnowa 14 – 15 listopada 2017</dc:title>
</cp:coreProperties>
</file>